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92F-BF53-46EB-B07C-B795133C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97D5-6102-4DAA-ADC8-7E2625FA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CBA-25C3-4751-936E-1096F198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4471-9AD7-4276-A075-305F16DC2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4C18-B4F7-457C-8EFD-81AC04048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4E0C-6A85-4717-840A-E79CB241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1233-0884-4CAF-B12B-42CF9710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9720-CFFB-401A-ACAF-71730B071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10FF-912E-4BD9-ADEA-C2D1EAA5B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6CBA-6A4D-4C89-962A-E68B84DC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10A-447B-4EA5-A855-4A8008B3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9E1-CF42-4FBA-A851-E769A7946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D4B-F4AC-42CA-9A0D-1F4BCA2E2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5C20-1332-4101-A77F-C40AF551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E0E6-F291-419B-92EA-B6044E748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9DB4-E517-413F-8118-0C10BA01C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AF7A-6A77-47AA-B82E-F79F7C1AB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8470-8089-4C09-BA8B-1B53D1FA7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E374-BF4D-4220-AB4A-77534CB5C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3160-68D3-42F2-BEAF-684F03C1E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D749-9311-4685-B5A1-9954F540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0DD-FBAF-4BD2-98DD-73818070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78FD-1160-42B9-82D4-3689F0FC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5D65-D2EE-4640-B5C3-06F0EF3F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B4D-33DA-4551-A7AB-F5703F902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E4E-5764-41F7-A138-897A5CDCD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723F-16E5-4ED3-867A-2B88FD634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235E-B739-4EDE-AAC2-267B23975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1F35-598D-4946-8E65-C9F90998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86FE-DD5B-4287-8E74-D58AF47C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8F4B-435B-4141-9FF3-741659D37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C129-6D5D-42AC-BD49-DEFC0DF4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EEE8-C311-4593-8879-D91643D50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1DDF-04FE-4763-8F29-B99D927C7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BEA9-B77F-4B5A-95A8-DE9306BFD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7A1-BC93-4A83-9B2E-A770F41B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0EA-5EB6-456C-9324-86C9EC729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0042-FBAB-45A6-9B89-60C95812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C756-3E46-4211-AB0E-5D7D86C38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84B4-5EDB-4130-8126-9D0FCDAC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CB0D-268B-4A3F-BE72-62ACF3521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9D25-284B-4D23-8696-9BA9AEF8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09D3-D103-4F3D-B3F3-D74B4C942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9E58-3BB1-4448-BF98-C56F8FA3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8CF-6E1B-48D1-8CCA-2475B291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DF4B-9355-4E4D-8DE2-4EA28214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E6AE-E5D1-47DD-BBE0-20DFFDA49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E1BB-72FC-4306-A883-730464426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688C-C394-4197-B1D1-715056CAE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E9B8-286B-4B09-9E58-369779CF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0C35-10E2-4753-B341-EC7E0156D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BA6-C021-40ED-B240-2D54557A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695-A403-47FE-966D-110870DF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151-0A25-4613-98D4-32D9CE9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090-A5F0-405E-A174-227BF9D4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949-BA20-47EF-82A8-CDC2953F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4D6-224C-4B86-8952-1DABB330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C5F-DD6D-4F78-B5CF-4B0F5294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B2D-617C-4310-AE6F-B95B2A77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91E-0063-4828-A44A-C9787B03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05C-440B-4555-9A8E-DC2EBD0C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AB7-AB04-4928-9A32-85E508B2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151-1208-4CFC-853B-192815B4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816-A7C9-468C-9C84-E25052C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A4E9-4694-4C38-BFE7-6616038D4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p V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k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natopsis”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nowbou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de”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o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utilus”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ronsid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iver Wendell Hol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term he na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iver Wendell Hol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nesth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Rip lived with at the end of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his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the peels of 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nine-pin (bowl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ces friends ar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died in war -or- Con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ington Ir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ving’s most famous piece of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the picture at the hotel/i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p Van Wink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King George to George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oung narrator compares the tunnel to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laddin’s 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tle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eeing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“foreign” objects from outside after the s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“Chinese roof” and “Pisa’s leaning mirac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d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“Snow-Bound: A Winter Idyl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nostalgic work describing a pleasant rural scene or homey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ington Ir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Legend of Sleepy H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that decorate the t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atopsi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lls, vales, woods, rivers, brooks,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Longfellow sees to make him start this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is wife’s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interpretations of what this poem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ome things change and some things sta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r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 is erased - start new/move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the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ands of a mother/child/G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of the cross on his ch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oss of Snow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burden of his wife’s death - not being able to save 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Greenleaf Whit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ouldn’t bring in food” - reference Whittier’s father is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ambic 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de Rises, the Tide Fa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n unstressed syllable followed by a stressed 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in writing this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n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o sav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S Constit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being scra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ended metap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comparing the growing of the nautilus to the growing of a human/development of the so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mes says this should happen instead of it being scra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ronsid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it should sink - so it stays in one pie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apostrop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li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direct address to an object or someone who is no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Greenleaf Whit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form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human dwellings noted in stanza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mbered Nautilu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cell, tenant, and cr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liam Cullen Bry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 Bryant held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of _________ ________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liam Cullen Bry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“Father of American Poetr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ry Wadsworth Longf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fellow was the first American to have a marble image in the Poets’ Corner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ry Wadsworth Longf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Westminister Abb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ACSD</cp:lastModifiedBy>
  <dcterms:modified xsi:type="dcterms:W3CDTF">2009-10-13T18:05:27Z</dcterms:modified>
  <cp:revision>50</cp:revision>
  <dc:subject/>
  <dc:title>No Slide Title</dc:title>
</cp:coreProperties>
</file>